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741"/>
            </a:gs>
            <a:gs pos="100000">
              <a:srgbClr val="230fa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Untitled-1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"/>
          <p:cNvSpPr/>
          <p:nvPr/>
        </p:nvSpPr>
        <p:spPr>
          <a:xfrm>
            <a:off x="324000" y="2333520"/>
            <a:ext cx="8496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Лекция 9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Text Box 8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Д Институт права и упр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ссистент С.С.Никифор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Прямоугольник 4"/>
          <p:cNvSpPr/>
          <p:nvPr/>
        </p:nvSpPr>
        <p:spPr>
          <a:xfrm>
            <a:off x="738360" y="3105000"/>
            <a:ext cx="7995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Методы и этапы обработки документац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Работа с исходящими документами, как инициативными, так и ответными, заключается:</a:t>
            </a:r>
            <a:br>
              <a:rPr sz="28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968120"/>
            <a:ext cx="82296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подготовке проекта документ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го оформлении и согласовании (визировании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достоверени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гистраци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правке из организ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Документы, подлежащие отправке, должны обрабатываться в день их поступления в службу ДОУ. </a:t>
            </a:r>
            <a:br>
              <a:rPr sz="2400"/>
            </a:b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При этом дополнительно: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2114280"/>
            <a:ext cx="8229600" cy="40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веряется наличие адресов рассылки на самом документе или на отдельном лист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веряется наличие необходимого числа копий, без учета экземпляра, остающегося в офис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точняется форма отправки корреспонденции: курьерская, телеграфная, электронная, электрографическая (факс), почтовая; в последнем случае важен вид почтового отправления: бандероль, простое, заказное, ценное письм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экспедиционная обработка отправляемых документов включает в себя: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2151000"/>
            <a:ext cx="822960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ртировку почты по корреспондента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паковку и оформление почтового отправл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едачу корреспонденции в отделение связ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000"/>
                </a:solidFill>
                <a:latin typeface="Arial"/>
              </a:rPr>
              <a:t>Причины увеличения объемов документов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56920"/>
            <a:ext cx="28368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Объективные причины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2552760"/>
            <a:ext cx="2727360" cy="35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лияние научно-технического прогресс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азвитие экономики, расширение и усложнение номенклатуры выпускаемой продукц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своение новых район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троительство новых объектов и, как результат, усложнение процессов управле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5280" y="763200"/>
            <a:ext cx="404172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Субъективные причин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220560" y="1164960"/>
            <a:ext cx="5465880" cy="56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увеличение количества проверяющих инстанций, контролирующих органов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ущемление и игнорирование законных прав граждан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еквалифицированное документирование управленческой деятельности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езнание или несоблюдение работниками управленческих структур законодательства, нормативных актов, устанавливающих юридические требования к оформлению документов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есвоевременное, некачественное выполнение заданий, поручений, договорных обязательств или срыв сроков их исполнения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тсутствие у подчиненных организаций или структурных подразделений права решать задачи, входящие в их компетенцию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екомпетентность управленческого персонала в решении производственных, экономических, управленческих задач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тсутствие в аппарате управления регламентации документирования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широкое распространение копировальной техники и ее бесконтрольное использование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значительному увеличению количества документов, т.к. один и тот же документ часто создается и в бумажной, и в электронной форм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При подсчете и анализе документооборота необходимо иметь в виду, что:</a:t>
            </a:r>
            <a:br>
              <a:rPr sz="2400"/>
            </a:b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ведения об объеме документооборота, как правило, занижены из-за несовершенной методики их сбор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ами по себе цифры, обозначающие количество документов, не могут характеризовать эффективность системы документооборота и управления в целом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бору и анализу полученных сведений должна предшествовать постановка задач: с какой целью собираются сведения, какой хронологический период и какая глубина проведения учета необходимы, каково будет их дальнейшее использовани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Arial"/>
              </a:rPr>
              <a:t>Оптимизация системы документооборота основывается на положениях, выработанных, как правило, практикой делопроизводства и научной организацией труда: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ключением возвратного движения документов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днократность пребывания документа в одном структурном подразделении или у одного исполнителя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астие той или иной инстанции должно быть строго обусловлено необходимостью обработки документа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личные операции должны выполняться параллельно для сокращения времени движения документов и повышения оперативности их исполнения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етно-информационные сведения о ходе движения и исполнения документов, результат контроля и др. следует передавать в службу делопроизводства с помощью регистрационных карточек, электронных сообщений, бездокументными способами (устно, по телефону), исключая возвратное движение самих документ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Вопросы для самопроверки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Документооборот. Определение, характеристика основных документопоток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Правила организации документооборота учрежд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Правила приёма и обработки поступающей корреспонденции, их влияние на организацию движения документ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Направление документов на исполн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 Основные направления совершенствования документооборо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Рекомендуемая литература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64960"/>
            <a:ext cx="8229600" cy="56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  Делопроизводство (Организация и технологии документационного обеспечения управления): Учебник для студ. вузов / Т.В. Кузнецова, Л.В. Санкина, Т.А. Быкова и др.; Под ред. Т.В. Кузнецовой.—М.: ЮНИТИ-ДАНА: 2007.—359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2.    Делопроизводство: Учебник для студ. вузов, обуч. по спец. 350800 «Документоведение и докум. обеспечение управления» / Г.Ю. Максимович, Т.А. Быкова, Л.М. Вялова, Л.В. Санкина; Под ред. Т.В. Кузнецовой. – М.: Изд-во МЦФЭР: 2008. – 544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елов А.А., Белов А.Н. Делопроизводство и документооборот. – М.: Кн. мир: 2008.– 340 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ирсанова М.В. Курс делопроизводства : Документационное обеспечение управления / М. В. Кирсанова, Ю. М. Аксенов ; Новосиб. гос. ун-т экономики и управления, Администрация Президента РФ, Сиб. акад. гос. службы. - 6-е изд.,испр. и доп. - М. ; Новосибирск : ИНФРА-М : Сиб. соглашение,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008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- 367 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узнецов И. Н.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елопроизводство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: учебно-справочное пособие / И. Н. Кузнецов. - 3-е изд., перераб. и доп. - М. : Дашков и К*,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007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- 520 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огожин М.Ю. Делопроизводство / М. Ю. Рогожин. - М. : ИндексМедиа,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007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- 240 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7.    Организация работы с документами. Учебник для вузов. Под ред. В.А. Кудряева. – М., 2001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8.     ГОСТ Р51141-98 Делопроизводство и архивное дело: Термины и определения.– М.: Издательство стандартов, 1998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CE6B3-9EA0-4434-BE33-046DBFF26F60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B61C8-CF64-4807-B5D3-4E7E9EAE6F22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ый матери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просы для самопровер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комендуемая литерату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Технологическая цепочка движения и обработки документов состоит из ряда этапов: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599840"/>
            <a:ext cx="8229600" cy="50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ема и первичной обработк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дварительного рассмотрения и распредел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гистрации документ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правления на исполнение и исполнения документ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формления и удостоверения документ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прав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В документообороте, или порядке движения документов в организации, выделяется несколько этапов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кспедиционная обработка документов, поступающих в организацию, и фиксация самого факта их поступл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дварительное рассмотрение документов службой ДОУ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рганизация движения документов внутри организации, включая доведение документов до исполнителей и придание юридической силы проектам документ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работка исполненных и отправляемых документ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При вскрытии корреспонденции упаковка (конверты) уничтожаются, исключения делаются только в следующих случаях: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599840"/>
            <a:ext cx="8229600" cy="50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в полученных документах нет обратного адреса и фамилии отправителя, но они есть на упаковк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в документе не проставлена дата и ее приходится устанавливать по почтовому штемпелю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полученный документ по смыслу носит личный характер, а на упаковке (конверте) грифа «Лично» не было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желании взыскать с корреспондента доплату почтовому ведомств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8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На поступающих документах проставляется отметка (штампом или от руки), включающая </a:t>
            </a: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: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369880"/>
            <a:ext cx="8229600" cy="37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именование организации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ата поступления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рядковый учетный номер докумен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 необходимости количество листов и подпись сотрудник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При диспетчеризации поступивших документов учитываются: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ажность содержа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ид документа: закон, распоряжение, письмо, отчет и т.д.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ложность и новизна поставленных вопрос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вторство,   т. е.   общественное   положение   лица  -   автора документа,   место учреждения-отправителя в структуре управления, роль общественной организации в жизни обществ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альная срочность исполнения докумен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Эффективную помощь при предварительном рассмотрении корреспонденции оказывают внутренние справочные материалы: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2223720"/>
            <a:ext cx="822960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мерный перечень документов, требующих обязательного рассмотрения руководство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чень должностных лиц и их обязанносте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хнологические графические схемы последовательности экспедиционной обработки и распределения различных поступающих документов и т.д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При рассмотрение корреспонденции руководителем обычно применяется следующая технология: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кументы передаются руководителем и посетителями по его просьбе секретарю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екретари руководителей по мере поступления к ним документов от руководителей заполняют специальную информационную форму (лист, карточку, экранный формат), в которую вносят сведения о номере и дате документа, содержании резолюции, сроке исполнения и исполнителе (подразделении), которому передают документ на исполнени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конце рабочего дня информационные листы секретарей всех руководителей поступают в службу документационного обеспечения, и на их основании дополняются сведения в информационно-поисковой системе организации. Такая технология в делопроизводственной практике получила название «переметка»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Loner-XP</cp:lastModifiedBy>
  <dcterms:modified xsi:type="dcterms:W3CDTF">2010-05-13T03:07:47Z</dcterms:modified>
  <cp:revision>138</cp:revision>
  <dc:subject/>
  <dc:title>Lecture Template </dc:title>
</cp:coreProperties>
</file>